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6F2-7221-4C26-A4E8-7E73498F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41D-5A8D-43CB-891F-24BC804D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BEA-1A0F-49AE-AF55-B9C989BF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B9D-7581-4290-81BB-8139C5B7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1E0-9157-44F8-ABD1-B6C7846F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20C-8860-4FC8-A08A-FEAB4535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B35-D8B8-4829-9F53-A25B0768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CE5-8F29-4B8F-851C-26C662FA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2D7-0AF5-4EE6-80A4-35449A49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FC0-ACD9-435D-8F31-3FF23D77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116-8573-4161-B2C9-B70F1D6B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39F-813C-4D78-BC53-64350DA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eaeae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B9C6-E36E-47BA-8750-E9832E0B3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hiller"/>
              </a:rPr>
              <a:t>Gorilla vs. Alligato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A misu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6400800" y="2998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914400" y="3808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Documents and Settings\jjohnson\Local Settings\Temporary Internet Files\Content.IE5\64TZQHQH\MCj03121220000[1].wmf"/>
          <p:cNvPicPr/>
          <p:nvPr/>
        </p:nvPicPr>
        <p:blipFill>
          <a:blip r:embed="rId3"/>
          <a:stretch/>
        </p:blipFill>
        <p:spPr>
          <a:xfrm>
            <a:off x="4267080" y="0"/>
            <a:ext cx="822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lligator bit the gor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started to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fought for a lo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ly the man said S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le 1"/>
          <p:cNvSpPr/>
          <p:nvPr/>
        </p:nvSpPr>
        <p:spPr>
          <a:xfrm>
            <a:off x="2514600" y="28195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stopped and forgave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2133720" y="1905120"/>
            <a:ext cx="51051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hiller"/>
              </a:rPr>
              <a:t>The End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re was a gori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3962520" y="525780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re was a alli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 flipH="1">
            <a:off x="4495320" y="0"/>
            <a:ext cx="2025720" cy="196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 flipH="1">
            <a:off x="2361960" y="4724280"/>
            <a:ext cx="2514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m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952880" y="5684760"/>
            <a:ext cx="41911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wanted to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1447920" y="26668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4800600" y="24382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Program Files\Microsoft Office\MEDIA\OFFICE12\Bullets\BD21294_.gif"/>
          <p:cNvPicPr/>
          <p:nvPr/>
        </p:nvPicPr>
        <p:blipFill>
          <a:blip r:embed="rId3"/>
          <a:stretch/>
        </p:blipFill>
        <p:spPr>
          <a:xfrm>
            <a:off x="3200400" y="3200400"/>
            <a:ext cx="4428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soc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jjohnson\Local Settings\Temporary Internet Files\Content.IE5\CX58QCPV\MCj04370490000[1].png"/>
          <p:cNvPicPr/>
          <p:nvPr/>
        </p:nvPicPr>
        <p:blipFill>
          <a:blip r:embed="rId1"/>
          <a:stretch/>
        </p:blipFill>
        <p:spPr>
          <a:xfrm rot="2329200">
            <a:off x="1066320" y="2157480"/>
            <a:ext cx="1271880" cy="127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jjohnson\Local Settings\Temporary Internet Files\Content.IE5\CX58QCPV\MCj04370740000[1].png"/>
          <p:cNvPicPr/>
          <p:nvPr/>
        </p:nvPicPr>
        <p:blipFill>
          <a:blip r:embed="rId3"/>
          <a:stretch/>
        </p:blipFill>
        <p:spPr>
          <a:xfrm flipH="1" rot="17550600">
            <a:off x="5358960" y="444456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jjohnson\Local Settings\Temporary Internet Files\Content.IE5\IZL375VI\MCj01511610000[1].wmf"/>
          <p:cNvPicPr/>
          <p:nvPr/>
        </p:nvPicPr>
        <p:blipFill>
          <a:blip r:embed="rId4"/>
          <a:stretch/>
        </p:blipFill>
        <p:spPr>
          <a:xfrm flipH="1">
            <a:off x="1371240" y="1447920"/>
            <a:ext cx="251460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Basket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5105520" y="571500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also sk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228600" y="17524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jjohnson\Local Settings\Temporary Internet Files\Content.IE5\CX58QCPV\MCj04370410000[1].png"/>
          <p:cNvPicPr/>
          <p:nvPr/>
        </p:nvPicPr>
        <p:blipFill>
          <a:blip r:embed="rId2"/>
          <a:stretch/>
        </p:blipFill>
        <p:spPr>
          <a:xfrm>
            <a:off x="1905120" y="22096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jjohnson\Local Settings\Temporary Internet Files\Content.IE5\BWJA6VH8\MCj02997890000[1].wmf"/>
          <p:cNvPicPr/>
          <p:nvPr/>
        </p:nvPicPr>
        <p:blipFill>
          <a:blip r:embed="rId3"/>
          <a:stretch/>
        </p:blipFill>
        <p:spPr>
          <a:xfrm rot="2456400">
            <a:off x="6370200" y="434952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jjohnson\Local Settings\Temporary Internet Files\Content.IE5\64TZQHQH\MCj04260200000[1].wmf"/>
          <p:cNvPicPr/>
          <p:nvPr/>
        </p:nvPicPr>
        <p:blipFill>
          <a:blip r:embed="rId4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One day they did not know what to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Blackoak Std"/>
              </a:rPr>
              <a:t>?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man said “football!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jjohnson\Local Settings\Temporary Internet Files\Content.IE5\W6W5RWIA\MCj01988200000[1].wmf"/>
          <p:cNvPicPr/>
          <p:nvPr/>
        </p:nvPicPr>
        <p:blipFill>
          <a:blip r:embed="rId1"/>
          <a:stretch/>
        </p:blipFill>
        <p:spPr>
          <a:xfrm rot="2848800">
            <a:off x="3606480" y="5327280"/>
            <a:ext cx="12952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said 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n taugh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Documents and Settings\jjohnson\Local Settings\Temporary Internet Files\Content.IE5\W6W5RWIA\MCED00105_0000[1].wmf"/>
          <p:cNvPicPr/>
          <p:nvPr/>
        </p:nvPicPr>
        <p:blipFill>
          <a:blip r:embed="rId1"/>
          <a:stretch/>
        </p:blipFill>
        <p:spPr>
          <a:xfrm>
            <a:off x="3827520" y="1957320"/>
            <a:ext cx="20397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they 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 was almost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228600" y="17524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jjohnson\Local Settings\Temporary Internet Files\Content.IE5\FMIT817P\MCj02998950000[1].wmf"/>
          <p:cNvPicPr/>
          <p:nvPr/>
        </p:nvPicPr>
        <p:blipFill>
          <a:blip r:embed="rId3"/>
          <a:stretch/>
        </p:blipFill>
        <p:spPr>
          <a:xfrm rot="18156000">
            <a:off x="5736960" y="3595320"/>
            <a:ext cx="1827360" cy="97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jjohnson\Local Settings\Temporary Internet Files\Content.IE5\FMIT817P\MCj02998950000[1].wmf"/>
          <p:cNvPicPr/>
          <p:nvPr/>
        </p:nvPicPr>
        <p:blipFill>
          <a:blip r:embed="rId4"/>
          <a:stretch/>
        </p:blipFill>
        <p:spPr>
          <a:xfrm rot="1181400">
            <a:off x="719280" y="1955880"/>
            <a:ext cx="18270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rilla was ahead b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lligator was m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jjohnson\Local Settings\Temporary Internet Files\Content.IE5\FMIT817P\MCj04347260000[1].png"/>
          <p:cNvPicPr/>
          <p:nvPr/>
        </p:nvPicPr>
        <p:blipFill>
          <a:blip r:embed="rId1"/>
          <a:stretch/>
        </p:blipFill>
        <p:spPr>
          <a:xfrm>
            <a:off x="533520" y="17524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 flipH="1">
            <a:off x="5866920" y="388620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jjohnson\Local Settings\Temporary Internet Files\Content.IE5\FMIT817P\MCj04244520000[1].wmf"/>
          <p:cNvPicPr/>
          <p:nvPr/>
        </p:nvPicPr>
        <p:blipFill>
          <a:blip r:embed="rId3"/>
          <a:stretch/>
        </p:blipFill>
        <p:spPr>
          <a:xfrm>
            <a:off x="5410080" y="3429000"/>
            <a:ext cx="20289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57:23Z</dcterms:created>
  <dc:creator>itsuser</dc:creator>
  <dc:description/>
  <dc:language>en-US</dc:language>
  <cp:lastModifiedBy>itsuser</cp:lastModifiedBy>
  <dcterms:modified xsi:type="dcterms:W3CDTF">2009-04-09T17:29:29Z</dcterms:modified>
  <cp:revision>8</cp:revision>
  <dc:subject/>
  <dc:title>Gorilla vs. Alligator</dc:title>
</cp:coreProperties>
</file>